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141B-F779-41B7-92B8-00283FEE8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B9AF-BACB-4541-8144-A8BAB1AE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94E8A1-02DB-4C07-902A-6C0FC972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D8D037-A57C-4E72-906F-C981C0F4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13D3E4-A4B7-49F4-A0BF-4C57809F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A4B3D1-009A-4137-AFF5-A3BAB912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8BFA7D-2092-48C0-81EF-DEBE12F6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732838-482A-4C11-8D3F-BE479545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B35C88-5A6F-4BE9-A5E6-64731F25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645807-408E-45D0-ABBD-40FF26A9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401E04-C92C-442B-AA36-4ECB2BB6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D72DCC-8C6A-4D27-8FB6-37F83E33F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A51E-EDDC-4B19-8AC9-B809E27C1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0500CD-2AD1-4340-8779-FD44A516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38E4DE-E112-413C-84FA-64A3F6C5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5EF2F8-5D74-44E2-9AC1-1BE3367E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A87369-C97C-4E2F-96A7-0FAF6070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30F102-F19C-4E9F-A0D4-5D114701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0B1AEB-E27F-45EB-9820-2CEA5611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0AA749-9A11-45F1-8BDD-948E3236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B93BCE-E657-4277-8ABA-9BFB94E2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CD9616-95AE-4463-ADFC-117640A6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18B086-5F83-402D-BE5A-ADF23DD64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6268-CE86-490D-AC23-38FE50680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B66F35-43AA-4AC5-B521-AD8270C7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83389-F91B-4587-821B-17E3A9B8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8E1CE-1673-4AFC-97AB-A4C0BE40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7F24D-0951-446B-8214-ADEC2C1B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EB7E1-51A6-4C6A-9D7C-66138934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45EEC-F936-4C9D-AE1C-D756C79F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22848-C911-4C98-8FB2-615E8ED5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FAE15-D935-4E2F-B654-4B25915F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1B8D0-7173-493E-BA74-0259023B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FDB2E-A095-4AA0-ACF7-F4DCC6AC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FD6A-BEAC-4478-A027-25EC3001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B8DC1-BD42-4470-8C45-8BFEE03D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981BA-763C-42C3-A87A-788F51EC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6E602-34CC-480C-AB0F-A3E0BE976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A28289-B1AC-4B3D-945A-96EDF970C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CD5A5A-7FC3-4D3E-82B9-139EB7EA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1451BF-7A81-4D19-921F-63629990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6C90BD-2063-4052-875B-13490F05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E0D743-73D9-4A83-99E4-C9C61094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089D2F-F3BA-4279-9C3F-CCF752DE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2CAB6B-98EB-4CEA-828F-7960C99B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1242-C73D-4237-89A4-3E31B7BF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D56704-0DE9-4C1F-9D01-9D10582A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A4118F-F370-4DA1-AE6B-6178A4CE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FDE842-9EA0-4D5F-937C-103B25BF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5150E6-9FB3-4DAA-8A75-674E60D8B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443C54-94DE-4289-85FC-AD8F4C0F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68A0-6DA1-4A87-B63E-F1BEE474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0BD4-CF42-454F-995F-A91BD31E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D607-E66F-4DC1-9E24-EE077D2C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FCD2-C2D5-49AC-925A-34C14021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58A4-C8B7-4E31-9CEE-86AEDD79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1096-361B-4F06-BF64-90FF5842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7D3C-6336-4878-B6D2-C00C53A6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1157-CAEF-4181-8410-B63B8BA9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C7D3-8763-4CA1-84AD-7095B5CB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CDBC-0B54-4DEE-B14D-4FAC7C2E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8D5F-B242-42C9-B3AC-FEEBCBC4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7EE04-C6D3-47DE-9204-F71CD6A8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40115-8D62-4BBB-A582-CA51AE61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EB5EF-0E40-4169-B4B2-F6070142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B2996-394D-44AB-92CF-9829B63E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126B4-69E1-41BF-A45A-15FD3FEC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94D7-0916-472C-8546-D228A6FD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D5D9D-279A-4EE4-AEB8-65B0153E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E5D8E-BDFA-42C6-8551-7912B952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77EDD-F51C-4CF8-9797-561EB6B5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CCA30-1712-4FFA-BBA7-E9CA2739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3DC5F-4EA0-4455-90D8-3ADAAF0D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EEF67-3C50-43B4-8B17-9301A199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92898-B195-4CF4-93EF-AE88F22BE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F7C46-C029-4E83-8BEB-424C3776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19E8E-60D9-4107-93A8-5A2A3762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C2C43-695C-4AB3-82D4-0BDAFCBE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B790-D1E8-4599-AE15-FAEE40F2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A882B-7E3B-4855-9BF4-3704C8C6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278F4-9E5F-444A-AF36-D580FAAF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97B3A-6A38-4962-9640-E470470C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D5A4B-21E6-482C-A3B2-84DFCE99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F2C3C-4C80-4E17-8E44-08CC8236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FFF3F-5CFB-4B0D-8FE0-51BA11C1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69491-E7AA-4815-9A72-0F0E87FB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DFFB3-BCBA-4BD5-BE3A-8B8583A6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9B4D5-3F2B-41E6-805F-89C145A8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2A8F8-5905-487B-945E-AD4C866C1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6C1A-923F-4861-B9B1-9374A941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36443-EF39-440E-8B25-A6BAF9FC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91FC5-31FD-43C4-88E9-0B929264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A7A73-3175-4E7B-A996-28A90CD8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F4C9B-32EC-4AB8-BAC4-085E8B60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F265B-4E9D-441F-873C-65A69EE2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B9FDA-E47D-4A73-AACC-8A1E993B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77F18-B826-4D0A-BE1C-68DF7FC9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3CB58-83DC-48CF-9617-B66A98E5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520AF-DBED-4646-AC7F-20F86EC9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F1FA5-7297-4A9D-8F8E-CBC27D44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D84F-FAE8-4053-BB5D-4536D985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DC1B2-EEE3-48CE-9A72-E6D72C99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431DD-835F-4C54-8571-4FC700D6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441F5-BB91-426D-B1AE-C151AF32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B08C8-6904-4F4E-84B1-20A05B19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88865-FC45-474C-97ED-A73FE969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07742-D56B-4DD1-AAAC-FD31EDE1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794BE-C6DF-4496-AC73-CEFD7AC0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65050-92DE-42CE-953B-C0E7C2D5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CE048-EBD0-4C44-ADEB-E5EA7AA0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18DE4-A440-4AB9-ADDB-CF888214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6D62-F3BB-4A75-B00C-392BA541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E69A9-DE7C-438A-9BB1-AE5CDEA8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C8998-0C25-4C34-A307-05FF82AD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320D2-F6D7-4557-A1B6-70A0F592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1AB3E-CCE0-4183-84CF-12D4BF17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E106F-44F2-4743-A973-D772D05C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992BE-1306-40A3-B242-F3FECA87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F5960-5DFD-40BC-9982-2FFBDFA8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EF45B-79E7-44E3-B863-D1B5B079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A94F9-D361-4EBC-884E-124F7A33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91143-CF1F-4B81-A552-25834D76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5DA1-D032-4132-BE93-1CF36FAA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6013D-C8F1-4FC3-AE71-AC7704D0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9D3E2-BEDE-4B7D-AFAD-65DD90B5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EAFF6-A654-4EE9-8AC8-06F21AFD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FC949-5C64-40DE-80E7-08C4C550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029F5-F48D-4403-B817-82AE262A0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79685-CE41-4B8F-8EF0-83CEC7E7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FD4C0-1ED4-475D-948C-0CF826DE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C7684-8A93-4748-ABC2-A31E5CBB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9D60C-3D66-4FB4-B21A-6DDC8D6A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BB944-0BBD-4075-8F1E-B44E6753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B166-A7ED-438C-A4C3-FC2C3C8F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0D2BC-3479-44CB-A76D-B510E11B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3E6E1-27F0-4B40-9A0E-D83383A3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2E931-572D-424B-A314-4649B3F8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68700-9734-4F95-98AC-DDAA0585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B2C8C-67B8-45A2-A943-6616BA52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ABE98-77C0-4DB8-AF8C-0EEB26C70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F63EE-AA04-4F04-BF6A-29F66CA4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EB061C-F798-4E8B-8D53-6338184DB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833780-B409-4734-8714-8AE32DB5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07EE46-66E2-42A4-BD96-D11CF61F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3C30-2AB2-439C-8891-6928B35A934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D1CF-CD28-4A51-A30D-679EE214B83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A457-3300-4ECF-BF2C-D08BAC93222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B6B2-2448-44A1-A646-4963C06A75E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27D9-544C-4AE8-BE29-79C09A4BB11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347A-83DC-462C-AE12-619D446F0AF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65C7-1057-480B-AEB4-1AF9DB3A95C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B741-149B-4A67-908E-F1533F16D0B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D28D-2B89-4FBA-B7AB-B629A8A674E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80F0-3886-47EA-A804-6BD0169D3BA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165A-5FA4-4082-8A35-32905ED28391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23AD-2872-4A49-ADF5-0671DA32022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CHAPTER 3, 4, 5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BY: CHRISTINE, MADDY, MICHELLE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Unit 1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Chapter 5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Supply and Demand: An Initial Look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PF and Supply and Demand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upply Shift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ight: suppliers are supplying more at every pric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eft: suppliers are supplying less at every pric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emand Shift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ight: consumers are buying more at every pric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eft: consumers are buying less at every pric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hapter 3</a:t>
            </a:r>
            <a:br>
              <a:rPr sz="3300"/>
            </a:b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e U.S. Economy: Myth and Real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Characteristics of the US Econom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Biggest economy in the world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Large population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Very rich: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resources, technology, and knowledg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Private enterprise economy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Majority of our factors of production are privately owned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Relatively closed economy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We consume most of what we produce and produce most of what we consume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Opennes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How much of the average imports/exports are as a percent of your GDP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Chapter 3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The U.S. Economy: Myth and Reality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fl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ustained increase in the average level of pric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cess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hen Real GDP declines for at least two consecutive quarter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Chapter 3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The U.S. Economy: Myth and Reality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puts and Outputs of the US econom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puts (Factors of Production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labor machinery and natural resources used to make outpu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merican work forc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Output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oods and services that consumers to acquir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/3 of all outputs are consumer good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nsumers spend about 70% of the all the spending in GDP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Chapter 3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The US Economy: Myth and Reality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Government’s Role in Econom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Government has to act as a refere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nforce the rules of the economic gam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ttle disput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egulates business activiti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reates laws to protect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Consumers, employees, other businesses, environment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pende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Taxes and redistributes income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hapter 4</a:t>
            </a:r>
            <a:br>
              <a:rPr sz="3600"/>
            </a:b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Scarcity and Choice: The Economic Problem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roduction Possibilities Frontie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 diagram that represents all of the possible combinations of goods a company can make when fully utilizing all their resourc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llustrates a trade off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traight lin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esources are not specializ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nstant opportunity cos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Bowed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pecialized resourc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Varying opportunity cos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inciple of increasing cos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Chapter 5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Supply and Demand: An Initial Look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ifts in the Demand Curv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onsumer tastes and preferenc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onsumer incom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opulat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rice of related good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ice of substitute  and complimentary good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Chapter 5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Supply and Demand: An Initial Look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plementary Good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Goods that are purchased togethe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xample: Peanut butter and jell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ubstitute Good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Goods that can be used in place of one anothe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xample: margarine and butter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Chapter 5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Supply and Demand: An Initial Look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aw of demand: consumers will buy more at a lower price than at a higher pri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aw of Supply: producers will produce more at a higher price than at a lower pri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quilibrium: where the supply and the demand curves intersec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here QS = QD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15:47Z</dcterms:created>
  <dc:creator>Zarko.S547</dc:creator>
  <dc:description/>
  <dc:language>en-US</dc:language>
  <cp:lastModifiedBy>HP Authorized Customer</cp:lastModifiedBy>
  <dcterms:modified xsi:type="dcterms:W3CDTF">2009-01-27T22:18:04Z</dcterms:modified>
  <cp:revision>13</cp:revision>
  <dc:subject/>
  <dc:title>Unit 1</dc:title>
</cp:coreProperties>
</file>